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23D50-23E1-4EFC-92E0-AE18C1B7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74728-878C-438A-845C-10401BDF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B65B4-5365-4291-8336-0B809909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7EFEE-B561-41E3-BF0F-5240411F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95D8-86E4-42CD-9652-C7E76D9C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2C21-08AE-4CE1-838E-D6DBEE82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A30C-66F5-4319-9894-FF35C837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6259-41A2-420A-B5CA-674328E0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69AE-9B1F-4590-B8DB-CB723BF1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6ECF-4F66-4CED-8866-A11CAA9C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CD29-85E7-4AB3-8198-3F01B742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DFA05-BFCA-4528-8EE2-BFC405B1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A7DD-AD27-4B91-BB6D-AE64FED7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CA8B-BC60-43BB-9326-62BE623E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4B19-7C02-4EA2-9EF9-146394C0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FC30-FA44-4E3F-B482-C025C05D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7E8A-BF14-4F71-A3F3-E28225AF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158B1-1E06-4919-82FC-A1221D2C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50E7D-B012-45D0-B61C-82C51792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28572-3916-43FD-9E9F-72437B45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E81B3-809A-45A5-A826-4B9A8853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CD0B-8F4F-4685-8C4C-779F0121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3A43F-3392-411E-BECA-2A1BB6F5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1F7FE-6E89-4189-B7EC-4C1317A3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4661D8-4D22-41D5-B59F-5857955B8C4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42560" cy="544680"/>
            <a:chOff x="0" y="0"/>
            <a:chExt cx="9142560" cy="54468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84040" cy="5317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920" y="135000"/>
              <a:ext cx="8729640" cy="2728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680" y="135000"/>
              <a:ext cx="136440" cy="139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560" y="0"/>
              <a:ext cx="13824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560" y="135000"/>
              <a:ext cx="138240" cy="139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680" y="274680"/>
              <a:ext cx="13500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760" y="136440"/>
              <a:ext cx="139680" cy="1364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680" y="2714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680" y="409680"/>
              <a:ext cx="13500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3520" cy="685656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716120" y="1690560"/>
              <a:ext cx="7426440" cy="2532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0" y="1066680"/>
              <a:ext cx="2865600" cy="3156120"/>
              <a:chOff x="0" y="1066680"/>
              <a:chExt cx="2865600" cy="3156120"/>
            </a:xfrm>
          </p:grpSpPr>
          <p:sp>
            <p:nvSpPr>
              <p:cNvPr id="55" name="Rectangle 5"/>
              <p:cNvSpPr/>
              <p:nvPr/>
            </p:nvSpPr>
            <p:spPr>
              <a:xfrm>
                <a:off x="573120" y="3583080"/>
                <a:ext cx="57456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6"/>
              <p:cNvSpPr/>
              <p:nvPr/>
            </p:nvSpPr>
            <p:spPr>
              <a:xfrm>
                <a:off x="1716120" y="1690560"/>
                <a:ext cx="573120" cy="641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2281320" y="1066680"/>
                <a:ext cx="584280" cy="633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1141560" y="3583080"/>
                <a:ext cx="582480" cy="639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2281320" y="1690560"/>
                <a:ext cx="58428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1141560" y="2324160"/>
                <a:ext cx="58248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0" y="2324160"/>
                <a:ext cx="581040" cy="6318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1716120" y="2324160"/>
                <a:ext cx="573120" cy="631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573120" y="294804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1141560" y="2948040"/>
                <a:ext cx="58248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E447D3-E62C-4067-A04D-8AC453F4AB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2971800" y="4267080"/>
            <a:ext cx="601812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Для добавления текста щелкните мышью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67626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Чему важно научиться, для того, чтобы стать менее агрессивным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499760"/>
            <a:ext cx="822816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-первых, научиться распознавать и регулировать некоторые формы своего повед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о-вторых, разряжать подавленную агрессию в приемлемых форм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рессия присуща, всем людям без исключения, так как это естественная защитная реакция. Поэтому проявлять агрессию очень легко, а преодолевать и заменять ее другими формами поведения гораздо сложн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1"/>
          <p:cNvSpPr txBox="1"/>
          <p:nvPr/>
        </p:nvSpPr>
        <p:spPr>
          <a:xfrm>
            <a:off x="762120" y="1905120"/>
            <a:ext cx="80769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/>
                </a:solidFill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ccffff"/>
              </a:solidFill>
              <a:latin typeface="Times New Roman"/>
              <a:ea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1240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2000160" y="2646360"/>
            <a:ext cx="69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50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Прогоняя зл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50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контролируем агрессию)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81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авила работы в групп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43040"/>
            <a:ext cx="822816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сть (активная работа на занятии каждого участн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Один в эфире" (не перебивать того, кто говори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Равные права" (не критиковать  высказывания другого участника, каждый имеет право на своё мнение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Я" (говорить только от своего имени, за себ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Стоп" (каждый имеет право прекратить обсуждение его проблем, если это ему неприят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371600" y="7621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Что такое агресс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838080" y="1428840"/>
            <a:ext cx="80200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Агрессия – "   поведение, направленное на нанесение физического или морального  ущерба кому-либо"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Басс и А. Дарки выделяют 5 видов агресс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28480"/>
            <a:ext cx="82281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Физическая агрессия (физические действия против кого-либ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Раздражение (вспыльчивость, грубо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ербальная агрессия (угрозы, крики, ругань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освенная агрессия:(сплетни, злобные шутки, крики в толпе, топание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егативизм (оппозиционная манера повед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эти виды агрессии можно наблюдать у людей разных  возрас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Притчи Иисуса Христа. Новый завет - YouTube"/>
          <p:cNvPicPr/>
          <p:nvPr/>
        </p:nvPicPr>
        <p:blipFill>
          <a:blip r:embed="rId1"/>
          <a:stretch/>
        </p:blipFill>
        <p:spPr>
          <a:xfrm>
            <a:off x="428760" y="642960"/>
            <a:ext cx="84294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бщие причины возникновения агресс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скорбления, унижение, агрессия со стороны други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епятствия в достижении ц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нутренний дискомфорт, неуверен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умение контролировать свои эмо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ревожность, отвержен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адекватная самооц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желание привлечь внимание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320" y="785880"/>
            <a:ext cx="82278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ртрет агрессивного подростка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428480"/>
            <a:ext cx="82281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рожает другим людям словами, жестами, взгляд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ает инициатором дра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спытывает сострадания, может намеренно делать больно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окий, не раскаивается в содеянн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читается с мнением родителей, их запрета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уливает уроки, конфликтует с учителями, сверст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286080" y="4643280"/>
            <a:ext cx="292896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785520"/>
            <a:ext cx="82281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одведем ито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годня я узна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о интерес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о труд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онял,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я мог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очувствовал,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научил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еня получилось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смог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опробую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я удивил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е захотелос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1-06-15T05:50:4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